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898-4E7E-4713-84F8-A760E137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793-B5EF-4877-899E-EC43E776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F7FF-113C-4600-B1BF-9CE651DE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98D5-4812-45D3-A64F-BD57C3E7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3DC7-C1E8-4CA2-9385-0BC7F121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235D-4A4B-4E57-A5B1-5770111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F21E-51B2-4947-B812-6BBBE94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F1C8-C7A5-4F79-82BA-C8A99DBD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0D428-309A-4EE9-B0EF-BB604356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3FFC-F456-4CE6-B25B-FD83318B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CB41-0CF5-472F-AB17-ACD3CB6A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E6C5-12EA-4B19-B29A-D5ADABC0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A452-1DBA-4EA3-B02C-3CF64ADF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431E-83FF-4FD5-B721-B30ABCE4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7B08-0136-45DC-8069-3CFFB412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21FF-35D6-4235-85BD-FADE57A3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1088-F61B-4BF2-ADA9-DB57D5E6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A4A-0277-4123-A473-4D855471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5DCA-E1B7-44BA-B4C9-222FDC34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4EC-5576-4DC7-BA5D-2C70DE0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741-E068-4F3A-9954-DD4C0A83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6ED-F336-4952-BF63-227F9B5F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F006-2D8B-4AA4-ADD5-3020D1A3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432F-3D19-4145-AC4C-77B8C4A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557B-3E89-43B2-A0EF-3E70F27F4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E5DF-6448-4C1F-BF0F-5B4667377A19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ology in Pract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xual Crim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aling with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hat is rape?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e unapproved sexual advances upon a person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 order to be classified as rape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ust be actual penetra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Use of force by assaila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Lack of mutual conse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04" name="Picture 5" descr="108-rape-lg"/>
          <p:cNvPicPr/>
          <p:nvPr/>
        </p:nvPicPr>
        <p:blipFill>
          <a:blip r:embed="rId1"/>
          <a:stretch/>
        </p:blipFill>
        <p:spPr>
          <a:xfrm>
            <a:off x="4991040" y="2832120"/>
            <a:ext cx="36194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cts on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ot stopping having sex when indicated by your partner despite previous consented sex is rape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ushing sex when your partner does not want it is rap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f you get a person inebriated, then perform sexual intercourse it is rap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 you don’t get a person drunk/high and know they are, but perform intercourse, it is rap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 you don’t get a person drunk/high and don’t know they are, but still perform intercourse, it is rap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f you are also drunk or high and have sex you have committed rape.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ypes of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rital Rape: forcible, unwanted sex in a marriag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tatutory Rape: sex with a minor under the age of consent, even if the minor agrees to the ac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litz Rape: an unexpected sexual assault by a total strange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Acquaintance Rape: rape committed by someone barely known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Incest: the rape of a child by an elder relativ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Group Rape: a group of people participate in the rape of a single individual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Tahoma"/>
              </a:rPr>
              <a:t>Gray Rape: a victim’s word against the assailant, there is no other evidence</a:t>
            </a:r>
            <a:endParaRPr b="0" lang="en-US" sz="2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aling with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auma goes beyond physical discomfor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y cause long lasting psychological trauma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ape is a heinous crime that although it involves sex, is about aggression and humili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3" name="Picture 5" descr="rape"/>
          <p:cNvPicPr/>
          <p:nvPr/>
        </p:nvPicPr>
        <p:blipFill>
          <a:blip r:embed="rId1"/>
          <a:stretch/>
        </p:blipFill>
        <p:spPr>
          <a:xfrm>
            <a:off x="1219320" y="268128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aling with Rap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ape is often accompanied by homicide, either as part of the violent act or attempt to prevent getting caugh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ape is often part of a serial killer’s homicid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articularly when killer is sexually sadistic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hoto is John Wayne Gacy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6" name="Picture 5" descr="gacy"/>
          <p:cNvPicPr/>
          <p:nvPr/>
        </p:nvPicPr>
        <p:blipFill>
          <a:blip r:embed="rId1"/>
          <a:stretch/>
        </p:blipFill>
        <p:spPr>
          <a:xfrm>
            <a:off x="5572080" y="2529000"/>
            <a:ext cx="2457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Rape Exa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hould be completed as soon as possib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Unfortunately, most victims wait days, months, or even years before even reporting the crim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19" name="Picture 5" descr="lee-testing-6-26-07"/>
          <p:cNvPicPr/>
          <p:nvPr/>
        </p:nvPicPr>
        <p:blipFill>
          <a:blip r:embed="rId1"/>
          <a:stretch/>
        </p:blipFill>
        <p:spPr>
          <a:xfrm>
            <a:off x="1219320" y="2832120"/>
            <a:ext cx="36194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ape Evi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men- presence indicates sex, but not ra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ruises, scars, abrasions- proves violent event, but not ra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ransfer of physical evidence- blood, semen, hairs, and fibers make a good case for ra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lection of Evi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ALL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uter and undergarments from the involved parti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 separate paper bags, not plastic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lace clean bed sheet on the floor and lay a clean paper sheet over i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Victim removes shoes before her standing on pap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ave victim disrobe while standing on paper, this allows for foreign material to collect on the pap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llection of Evid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llectors should wear disposable latex gloves to prevent contamin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Victim should undergo a medical examin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vidence and medical results provide support for rape ca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126" name="Picture 5" descr="07-06lomirs"/>
          <p:cNvPicPr/>
          <p:nvPr/>
        </p:nvPicPr>
        <p:blipFill>
          <a:blip r:embed="rId1"/>
          <a:stretch/>
        </p:blipFill>
        <p:spPr>
          <a:xfrm>
            <a:off x="5848200" y="2057400"/>
            <a:ext cx="26686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 a male be raped by a femal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By definition of rape, yes he can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 order for a male to be raped by a female, the female must first do something to sexually arouse the male.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is is followed by forced penetration (the definition of rape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istics of Sem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earch for semen includes corpse, victim, undergarments, bed sheets, mattresses, carpeting, flooring, etc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tain location-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ften visible as stiff crusty spot (s)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86" name="Picture 5" descr="Fig%2026"/>
          <p:cNvPicPr/>
          <p:nvPr/>
        </p:nvPicPr>
        <p:blipFill>
          <a:blip r:embed="rId1"/>
          <a:stretch/>
        </p:blipFill>
        <p:spPr>
          <a:xfrm>
            <a:off x="4991040" y="2308320"/>
            <a:ext cx="36194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ying a semen stai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cid phosphotase color test-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cid phosphotase is an enzyme found in the prostate glan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f found, an acidic solution of sodium alpha napthyphosphotase and fast blue dye produces a purple colo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sumptive tes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4-methyl umbelliferyl phosphate (MUP)-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Will fluoresce under UV ligh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eaction time of less than 30 seconds is evident of strong semen concentr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ruit juices, cauliflower, and watermelon produce false positiv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icroscop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mmerse stain in small amount of water and view under microscop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of spermatozoa is proof of semen sampl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 key term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Oligospermia- low sperm count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spermia- absence of sperm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dentif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f no spermatozoa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un p30 (specific antigen (PSA)) tes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mbining antibody30 with electrical charge causes a visible line between antigen and antibod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30 is unique to seminal flui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itive Test, then what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91040" y="1676160"/>
            <a:ext cx="3619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nce semen test produces positive results, a link is made to individual through DN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pic>
        <p:nvPicPr>
          <p:cNvPr id="97" name="Picture 5" descr="01-coll-dna-knoll-l"/>
          <p:cNvPicPr/>
          <p:nvPr/>
        </p:nvPicPr>
        <p:blipFill>
          <a:blip r:embed="rId1"/>
          <a:stretch/>
        </p:blipFill>
        <p:spPr>
          <a:xfrm>
            <a:off x="1609560" y="2200320"/>
            <a:ext cx="283860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rm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otile Sperm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Generally survives 4-6 hours in the vaginal cavit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on-motile Sperm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an be found up to 3-6 days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tact sperm with tails not normally found after 16 hours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ortant to find out time of rape and time intercours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rm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mportant to rule out consensual partner through buccal (mouth) swab and blood sampl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men is resilien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ven after washing clothes, sheets, linens, etc. there could still be traces of spermatozoa and PS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ust ask President Clinton about Monica’s Dress…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01:57:27Z</dcterms:created>
  <dc:creator>Adam's Homepage</dc:creator>
  <dc:description/>
  <cp:keywords/>
  <dc:language>en-US</dc:language>
  <cp:lastModifiedBy>Adam Goosby</cp:lastModifiedBy>
  <dcterms:modified xsi:type="dcterms:W3CDTF">2011-07-02T22:37:04Z</dcterms:modified>
  <cp:revision>5</cp:revision>
  <dc:subject/>
  <dc:title>Serology in Pract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71033</vt:lpwstr>
  </property>
</Properties>
</file>